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7621588" cy="101584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DBE-03BE-4E67-B7C7-9C982DB75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64767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71320" y="6118920"/>
            <a:ext cx="64767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14B00-9B62-481F-8A66-CA32E988D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7132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89016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4D12-9FD4-49BD-A4DC-267756B5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761200" y="293364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950720" y="293364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71320" y="611892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761200" y="611892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950720" y="6118920"/>
            <a:ext cx="208512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4ED2B-625E-415F-A72C-C04727265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71320" y="2933640"/>
            <a:ext cx="6476760" cy="609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24C3-0921-4943-A102-C96B7605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647676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BE85-39BB-414D-8B9F-31F625D7A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7D9B-84D8-42A2-B2D2-08C896B4D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229F-E8A6-4F37-88FA-0C72A87A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1320" y="901440"/>
            <a:ext cx="6476760" cy="785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F52-FA3D-4C20-A299-3027008B1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7132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FD62E-4A67-40F9-BFA0-9C95C26B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90160" y="611892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6D2A1-52AC-4C6D-99B6-DB309F19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7132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90160" y="2933640"/>
            <a:ext cx="316044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71320" y="6118920"/>
            <a:ext cx="6476760" cy="29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CB50-D14E-4689-A42E-A93F50B4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1320" y="901440"/>
            <a:ext cx="6476760" cy="16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320" y="2933640"/>
            <a:ext cx="6476760" cy="60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71680" y="9256320"/>
            <a:ext cx="158904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601720" y="9256320"/>
            <a:ext cx="241596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460480" y="9256320"/>
            <a:ext cx="1589400" cy="6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E5D02-1153-41F6-8ACE-03808E64C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ShockwaveFlash1"/>
          <p:cNvGraphicFramePr/>
          <p:nvPr/>
        </p:nvGraphicFramePr>
        <p:xfrm>
          <a:off x="0" y="1650960"/>
          <a:ext cx="6929280" cy="762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50960"/>
                    <a:ext cx="6929280" cy="7623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FERMAT’S THEOREM REVISITE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"/>
          <p:cNvSpPr/>
          <p:nvPr/>
        </p:nvSpPr>
        <p:spPr>
          <a:xfrm>
            <a:off x="376200" y="2646360"/>
            <a:ext cx="6740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ermat’s Theorem can be stated using the idea of critical numbers as follow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Fermat’s Theore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a local minimum or local maximum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 critical number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THEORE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376200" y="2646360"/>
            <a:ext cx="680400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ontinuou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n a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closed interv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tains both an absolute minimum and absolute maximum value on that inter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HE CLOSED INTERVAL METHOD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39560" y="4227480"/>
            <a:ext cx="6740640" cy="588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values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the critical numbers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d the values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the endpoints of the interva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he largest of the values from Steps 1 and 2 is the absolute maximum value; the smallest of these values is the absolute minimum value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12840" y="1855800"/>
            <a:ext cx="69310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 find the </a:t>
            </a:r>
            <a:r>
              <a:rPr b="0" i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absolut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maximum and minimum values of a continuous function on a closed interval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30000" y="3206880"/>
            <a:ext cx="6359400" cy="207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Section 3.1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201320" y="5808600"/>
            <a:ext cx="521676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Maximum and Minimum Valu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at is the slope of the tangent line at the extrema of a functio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4"/>
          <p:cNvSpPr/>
          <p:nvPr/>
        </p:nvSpPr>
        <p:spPr>
          <a:xfrm>
            <a:off x="439560" y="2421000"/>
            <a:ext cx="6740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slope of a function at a hill? At a valley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5"/>
          <p:cNvSpPr/>
          <p:nvPr/>
        </p:nvSpPr>
        <p:spPr>
          <a:xfrm>
            <a:off x="3614760" y="3522600"/>
            <a:ext cx="394668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What happens to the slope as x approaches from the – sid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1"/>
          <a:stretch/>
        </p:blipFill>
        <p:spPr>
          <a:xfrm>
            <a:off x="254160" y="3556080"/>
            <a:ext cx="3144600" cy="21272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7"/>
          <p:cNvSpPr/>
          <p:nvPr/>
        </p:nvSpPr>
        <p:spPr>
          <a:xfrm>
            <a:off x="9360" y="6375240"/>
            <a:ext cx="42008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What happens to the slope as x approaches from the +sid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8"/>
          <p:cNvSpPr/>
          <p:nvPr/>
        </p:nvSpPr>
        <p:spPr>
          <a:xfrm>
            <a:off x="3809880" y="4960800"/>
            <a:ext cx="38624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0000"/>
                </a:solidFill>
                <a:latin typeface="Arial"/>
              </a:rPr>
              <a:t>Becomes less nega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4210200" y="6400800"/>
            <a:ext cx="225252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3399"/>
                </a:solidFill>
                <a:latin typeface="Arial"/>
              </a:rPr>
              <a:t>Becomes less positiv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What is the slope of the tangent line at the extrema of a function?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439560" y="2421000"/>
            <a:ext cx="67406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hat is the slope of a function at a </a:t>
            </a:r>
            <a:r>
              <a:rPr b="0" lang="en-US" sz="2700" spc="-1" strike="noStrike">
                <a:solidFill>
                  <a:srgbClr val="c00000"/>
                </a:solidFill>
                <a:latin typeface="Arial"/>
              </a:rPr>
              <a:t>hil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 At a </a:t>
            </a:r>
            <a:r>
              <a:rPr b="0" lang="en-US" sz="2700" spc="-1" strike="noStrike">
                <a:solidFill>
                  <a:srgbClr val="7878de"/>
                </a:solidFill>
                <a:latin typeface="Arial"/>
              </a:rPr>
              <a:t>valley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398520" y="5892840"/>
            <a:ext cx="31827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hat happens to the slope as x approaches from the – 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6" descr=""/>
          <p:cNvPicPr/>
          <p:nvPr/>
        </p:nvPicPr>
        <p:blipFill>
          <a:blip r:embed="rId1"/>
          <a:stretch/>
        </p:blipFill>
        <p:spPr>
          <a:xfrm>
            <a:off x="422280" y="3726000"/>
            <a:ext cx="3006720" cy="20318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7"/>
          <p:cNvSpPr/>
          <p:nvPr/>
        </p:nvSpPr>
        <p:spPr>
          <a:xfrm>
            <a:off x="1947960" y="7686720"/>
            <a:ext cx="31827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What happens to the slope as x approaches from the +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3581280" y="3403440"/>
            <a:ext cx="276084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to the slope as x approaches from the – 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431640" y="7101000"/>
            <a:ext cx="23371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ecomes less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446040" y="8661240"/>
            <a:ext cx="3691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00000"/>
                </a:solidFill>
                <a:latin typeface="Arial"/>
              </a:rPr>
              <a:t>Becomes less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5732640" y="4284720"/>
            <a:ext cx="174456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es less neg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3538440" y="5172120"/>
            <a:ext cx="2846520" cy="11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What happens to the slope as x approaches from the +sid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5276880" y="6116760"/>
            <a:ext cx="1828800" cy="8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lvl="1" marL="457200" indent="-342720">
              <a:lnSpc>
                <a:spcPct val="95000"/>
              </a:lnSpc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Becomes less pos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ABSOLUTE MINIMUM AND ABSOLUTE MAXIMU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39560" y="2421000"/>
            <a:ext cx="674064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has an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absolute</a:t>
            </a:r>
            <a:r>
              <a:rPr b="0" lang="en-US" sz="23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or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globa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maxim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≥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The number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is called the maximum value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has an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absolute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globa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minimum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≤ f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, where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is the domain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 The number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is called the minimum value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n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e maximum and minimum values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are called the </a:t>
            </a:r>
            <a:r>
              <a:rPr b="1" lang="en-US" sz="2300" spc="-1" strike="noStrike" u="sng">
                <a:solidFill>
                  <a:srgbClr val="3333ff"/>
                </a:solidFill>
                <a:uFillTx/>
                <a:latin typeface="Arial"/>
              </a:rPr>
              <a:t>extreme values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OCAL MINIMUM AND</a:t>
            </a:r>
            <a:br>
              <a:rPr sz="3300"/>
            </a:b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LOCAL MAXIMU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39560" y="2421000"/>
            <a:ext cx="6740640" cy="660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lo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maxim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≥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ea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functio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has a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loc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or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relative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minimum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≤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for all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nea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THE EXTREME VALUE THEOREM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376200" y="2646360"/>
            <a:ext cx="6740640" cy="19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s continuous on a closed interval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ttains an absolute maximum valu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nd an absolute minimum valu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at some numbers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[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]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FERMAT’S THEORE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4"/>
          <p:cNvSpPr/>
          <p:nvPr/>
        </p:nvSpPr>
        <p:spPr>
          <a:xfrm>
            <a:off x="376200" y="2646360"/>
            <a:ext cx="7185240" cy="7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 u="sng">
                <a:solidFill>
                  <a:srgbClr val="000000"/>
                </a:solidFill>
                <a:uFillTx/>
                <a:latin typeface="Arial"/>
              </a:rPr>
              <a:t>Theorem</a:t>
            </a: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has a local maximum or minimum at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, and 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exists, the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= 0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9560" y="456840"/>
            <a:ext cx="6740640" cy="15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</a:rPr>
              <a:t>CRITICAL NUMBERS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376200" y="2760840"/>
            <a:ext cx="6740640" cy="11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2700" spc="-1" strike="noStrike" u="sng">
                <a:solidFill>
                  <a:srgbClr val="3333ff"/>
                </a:solidFill>
                <a:uFillTx/>
                <a:latin typeface="Arial"/>
              </a:rPr>
              <a:t>critical number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of a function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a numbe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n the domain o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such that eithe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= 0 or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′(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) does not exist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Raja, Sheila</cp:lastModifiedBy>
  <dcterms:modified xsi:type="dcterms:W3CDTF">2011-11-07T20:29:49Z</dcterms:modified>
  <cp:revision>6</cp:revision>
  <dc:subject/>
  <dc:title>PowerPoint Presentation</dc:title>
</cp:coreProperties>
</file>